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4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wmf" ContentType="image/x-wmf"/>
  <Override PartName="/ppt/media/image22.jpeg" ContentType="image/jpeg"/>
  <Override PartName="/ppt/media/image14.png" ContentType="image/pn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F5DB-AF05-4E01-AE81-60E5BBA57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551D-95A3-4ED7-8010-CBA9F3017D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009C-B64E-4D57-AB65-E0958D932E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02D0-2844-481A-95E6-FDC2834D4C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E8B4-D3FC-44D6-A85C-537AC3E1DC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01C0-F678-4CFA-970F-50FEC63660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5AEF-7EE1-48FB-879A-326EA70CDF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9F02-9D98-406A-AC87-3436DE8B5E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1F55-FD0B-4826-B870-56A050B6A5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6C6A-9DF6-49A4-A4BE-A0DE558369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81FB-17EA-4811-82DC-593945E016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73A5-ECC6-463F-B013-DBF7B00544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EB37-2760-4CD1-8AFE-13187FCCCE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10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C0EC-232A-4A29-8215-5FEEACBF60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4EA7-F3D9-4FBC-9D9C-DB6E31BD80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24CF-D359-4538-8CC7-ED227EFD77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A807-49C3-44C6-96F2-1196F833F8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10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2A6F-5B71-49D9-810D-F6C173A637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C64A-6D7D-44A1-BA82-8EDBBFAB67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489C-BD1C-4103-AA24-B95ADB4FF5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D051-D2BD-4671-B6EE-F9AFAE0E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95BF-9308-4464-BAA4-2558CC75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34F6-AA62-40E0-B9DB-8BE603DD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7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7496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219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7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7496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12C1-67C6-4410-903E-A6500A85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8DC3-2596-467D-8A51-9FA8EBA3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9766-0193-48BF-A571-EFFDAC9C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E336-2A9C-4172-8B42-01CA004F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A457-ED3E-4013-9014-CB3B161C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BB2B-00D6-484E-BC52-F5AACC97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B9A2-C3F7-4FE0-AA0E-A2387810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EE75-4AE2-4FDF-BAEC-CB018C35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3FC6-DAE8-477A-8CC1-C807947A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AB1C-C73A-489D-B3F8-A625708D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B467-F114-43A6-A8BF-C143C515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9A4C-5DB6-4E77-82FC-F7C5FF27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3908-CF49-4EF8-AE23-1CE47224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47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7496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219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47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7496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85EA-DD68-4FA0-822B-AFD687E3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320BD-EA08-44CE-890F-7DDAF122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22131-3524-4BF2-8BEF-7D3D691F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C96D9-E1BD-4C4E-A181-ADDA1382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A7872-DFAB-42D9-8585-73CC4CEF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6FECD-8F31-4C30-84D1-7428D315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81CC-A99A-41DE-B012-E73A47A8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6693C-CDEB-4CFB-9E15-49534936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8DB56-8AF2-41E2-A364-DE9F92EC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17921-F27F-4635-8D95-FF0FFE8D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A20D3-0225-40D5-9158-BD3E8F90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F7C9A-D285-453C-BA8A-C2A9E58F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AA5A9-40FD-4688-B38D-CCB96980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847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7496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219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847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7496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503F5-1C7C-466C-AB3D-AE97E638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F937C-3AAE-4AA4-9696-EC875C16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85B1B-90D4-48D5-BE65-0F521D3D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995D7-13BE-4035-B0E5-DC8E927E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0540-7118-49B2-B84E-82FEB4E0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93D82-6C0E-4437-9CD1-1095E3B7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4EA06-DEF6-47C6-BE93-30B8062C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030F3-3748-4DCB-ACDF-0041CAFF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E2412-D1FC-4087-B877-E6E3FFDB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AEABF-B2D6-40AD-8C8A-FAD46E55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BF774-F33A-48A8-848A-C9CD6F05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4EE55-0013-4548-B313-F5A7EA1B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84607-B3F0-4AA0-92C8-1E12DFBA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47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7496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219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47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7496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B184F-F14D-430A-AEAC-B00A91EA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EC9E8-D305-4DF6-9854-88710B8B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DA30-D704-4544-86CF-5C99163C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D83C4-A28F-4871-B977-43DE7E43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60781-A3FE-4049-8289-07019ECE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496B2-2AEE-40F3-98FE-D80D7485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2EC83-40D0-4849-9AEA-44D399EF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5D3B9-81B8-47D6-9FBF-48F0B82D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E0A64-083D-49F3-98BC-1D159C97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8F41F-7612-4C76-8399-4BF1EAAC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4A317-B314-4286-A830-52A717AC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3B489-7CFD-4EBE-AE32-18721AF3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B8A79-F63F-487F-87C0-BAF5A238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7DCB-EFB5-4E5E-8493-DFF38D3D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84732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47496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1219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84732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47496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E21A5-1524-454E-8E55-DF3C17FC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7674-4DD6-41CC-84A0-459FBE88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020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AF28-D14B-4FBE-AB5B-929A7F1C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4918-81CB-4C5C-B96A-7BF38C0F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066680" y="1459080"/>
            <a:ext cx="8077320" cy="5398920"/>
          </a:xfrm>
          <a:prstGeom prst="rect">
            <a:avLst/>
          </a:prstGeom>
          <a:gradFill rotWithShape="0">
            <a:gsLst>
              <a:gs pos="0">
                <a:srgbClr val="060833"/>
              </a:gs>
              <a:gs pos="100000">
                <a:srgbClr val="1822c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1447920"/>
            <a:ext cx="1066680" cy="5410080"/>
          </a:xfrm>
          <a:prstGeom prst="rect">
            <a:avLst/>
          </a:prstGeom>
          <a:gradFill rotWithShape="0">
            <a:gsLst>
              <a:gs pos="0">
                <a:srgbClr val="03051b"/>
              </a:gs>
              <a:gs pos="100000">
                <a:srgbClr val="1822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95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8098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D310-3022-4AF0-9985-2D0D517EB9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355680"/>
            <a:ext cx="6172200" cy="2438280"/>
            <a:chOff x="0" y="355680"/>
            <a:chExt cx="6172200" cy="2438280"/>
          </a:xfrm>
        </p:grpSpPr>
        <p:sp>
          <p:nvSpPr>
            <p:cNvPr id="6" name="Oval 8"/>
            <p:cNvSpPr/>
            <p:nvPr/>
          </p:nvSpPr>
          <p:spPr>
            <a:xfrm>
              <a:off x="789120" y="1144440"/>
              <a:ext cx="573120" cy="569880"/>
            </a:xfrm>
            <a:prstGeom prst="ellipse">
              <a:avLst/>
            </a:prstGeom>
            <a:gradFill rotWithShape="0">
              <a:gsLst>
                <a:gs pos="0">
                  <a:srgbClr val="1822cd"/>
                </a:gs>
                <a:gs pos="100000">
                  <a:srgbClr val="080b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942840" y="1311120"/>
              <a:ext cx="260640" cy="24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822c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1441440"/>
              <a:ext cx="228600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fffff"/>
                </a:gs>
                <a:gs pos="100000">
                  <a:srgbClr val="0a0e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076400" y="355680"/>
              <a:ext cx="9360" cy="243828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fffff"/>
                </a:gs>
                <a:gs pos="100000">
                  <a:srgbClr val="0a0e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144440" y="1441440"/>
              <a:ext cx="502776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a0e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50" name="AutoShape 3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>
                <a:gd name="textAreaLeft" fmla="*/ 0 w 7772400"/>
                <a:gd name="textAreaRight" fmla="*/ 7772760 w 77724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>
                <a:gd name="textAreaLeft" fmla="*/ 0 w 7782120"/>
                <a:gd name="textAreaRight" fmla="*/ 7782480 w 7782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7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>
                <a:gd name="textAreaLeft" fmla="*/ 0 w 7920000"/>
                <a:gd name="textAreaRight" fmla="*/ 7920360 w 7920000"/>
                <a:gd name="textAreaTop" fmla="*/ 360 h 457200"/>
                <a:gd name="textAreaBottom" fmla="*/ 457920 h 457200"/>
              </a:gdLst>
              <a:ahLst/>
              <a:rect l="textAreaLeft" t="textAreaTop" r="textAreaRight" b="textAreaBottom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15E3-2E6F-4259-83D9-523FF15DDFC0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CF15-B056-4923-A46F-E01A183DE3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0e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1066680" y="2995560"/>
            <a:ext cx="8077320" cy="3862440"/>
          </a:xfrm>
          <a:prstGeom prst="rect">
            <a:avLst/>
          </a:prstGeom>
          <a:gradFill rotWithShape="0">
            <a:gsLst>
              <a:gs pos="0">
                <a:srgbClr val="060833"/>
              </a:gs>
              <a:gs pos="100000">
                <a:srgbClr val="1822c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2995560"/>
            <a:ext cx="1066680" cy="3862440"/>
          </a:xfrm>
          <a:prstGeom prst="rect">
            <a:avLst/>
          </a:prstGeom>
          <a:gradFill rotWithShape="0">
            <a:gsLst>
              <a:gs pos="0">
                <a:srgbClr val="03051b"/>
              </a:gs>
              <a:gs pos="100000">
                <a:srgbClr val="1822c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0" y="1905120"/>
            <a:ext cx="6172200" cy="2438280"/>
            <a:chOff x="0" y="1905120"/>
            <a:chExt cx="6172200" cy="2438280"/>
          </a:xfrm>
        </p:grpSpPr>
        <p:sp>
          <p:nvSpPr>
            <p:cNvPr id="140" name="Oval 8"/>
            <p:cNvSpPr/>
            <p:nvPr/>
          </p:nvSpPr>
          <p:spPr>
            <a:xfrm>
              <a:off x="789120" y="2693880"/>
              <a:ext cx="573120" cy="569880"/>
            </a:xfrm>
            <a:prstGeom prst="ellipse">
              <a:avLst/>
            </a:prstGeom>
            <a:gradFill rotWithShape="0">
              <a:gsLst>
                <a:gs pos="0">
                  <a:srgbClr val="1822cd"/>
                </a:gs>
                <a:gs pos="100000">
                  <a:srgbClr val="080b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9"/>
            <p:cNvSpPr/>
            <p:nvPr/>
          </p:nvSpPr>
          <p:spPr>
            <a:xfrm>
              <a:off x="942840" y="2860560"/>
              <a:ext cx="260640" cy="24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822c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10"/>
            <p:cNvSpPr/>
            <p:nvPr/>
          </p:nvSpPr>
          <p:spPr>
            <a:xfrm>
              <a:off x="0" y="2990880"/>
              <a:ext cx="2286000" cy="936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fffff"/>
                </a:gs>
                <a:gs pos="100000">
                  <a:srgbClr val="0a0e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1076400" y="1905120"/>
              <a:ext cx="9360" cy="2438280"/>
            </a:xfrm>
            <a:prstGeom prst="rect">
              <a:avLst/>
            </a:prstGeom>
            <a:gradFill rotWithShape="0">
              <a:gsLst>
                <a:gs pos="0">
                  <a:srgbClr val="0a0e5b"/>
                </a:gs>
                <a:gs pos="50000">
                  <a:srgbClr val="ffffff"/>
                </a:gs>
                <a:gs pos="100000">
                  <a:srgbClr val="0a0e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1144440" y="2990880"/>
              <a:ext cx="5027760" cy="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a0e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12193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460e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460e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460e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85CE-81D5-4CCF-9B9D-BADDC623D3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6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187" name="AutoShape 7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AutoShape 8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9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>
                <a:gd name="textAreaLeft" fmla="*/ 0 w 7772400"/>
                <a:gd name="textAreaRight" fmla="*/ 7772760 w 77724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>
                <a:gd name="textAreaLeft" fmla="*/ 0 w 7782120"/>
                <a:gd name="textAreaRight" fmla="*/ 7782480 w 7782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1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>
                <a:gd name="textAreaLeft" fmla="*/ 0 w 7920000"/>
                <a:gd name="textAreaRight" fmla="*/ 7920360 w 7920000"/>
                <a:gd name="textAreaTop" fmla="*/ 360 h 457200"/>
                <a:gd name="textAreaBottom" fmla="*/ 457920 h 457200"/>
              </a:gdLst>
              <a:ahLst/>
              <a:rect l="textAreaLeft" t="textAreaTop" r="textAreaRight" b="textAreaBottom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9DD5-6838-4D42-9FBE-F39113CFED62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PresSealFlag"/>
          <p:cNvPicPr/>
          <p:nvPr/>
        </p:nvPicPr>
        <p:blipFill>
          <a:blip r:embed="rId1"/>
          <a:stretch/>
        </p:blipFill>
        <p:spPr>
          <a:xfrm>
            <a:off x="1600200" y="2279520"/>
            <a:ext cx="6324480" cy="4294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7528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60ee"/>
                </a:solidFill>
                <a:latin typeface="Capitals"/>
              </a:rPr>
              <a:t>Presidential Appointments:</a:t>
            </a: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ffcc66"/>
                </a:solidFill>
                <a:latin typeface="Baskerville Semibold"/>
              </a:rPr>
              <a:t>Process and Politics</a:t>
            </a:r>
            <a:endParaRPr b="1" lang="en-US" sz="4400" spc="-1" strike="noStrike">
              <a:solidFill>
                <a:srgbClr val="4460ee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60ee"/>
                </a:solidFill>
                <a:latin typeface="Capitals"/>
              </a:rPr>
              <a:t>The Role of the Cabinet in the Modern Era</a:t>
            </a:r>
            <a:endParaRPr b="1" lang="en-US" sz="40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3352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90000"/>
              </a:lnSpc>
              <a:spcBef>
                <a:spcPts val="700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isory group to the Presi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90000"/>
              </a:lnSpc>
              <a:spcBef>
                <a:spcPts val="700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binet secretaries head the fifteen executive depar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84040">
              <a:lnSpc>
                <a:spcPct val="120000"/>
              </a:lnSpc>
              <a:spcBef>
                <a:spcPts val="700"/>
              </a:spcBef>
              <a:buClr>
                <a:srgbClr val="5dbac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p President execute laws and assist in decision-ma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Picture 4" descr="cabinet_blog_PS-0331"/>
          <p:cNvPicPr/>
          <p:nvPr/>
        </p:nvPicPr>
        <p:blipFill>
          <a:blip r:embed="rId1"/>
          <a:stretch/>
        </p:blipFill>
        <p:spPr>
          <a:xfrm>
            <a:off x="4038480" y="2209680"/>
            <a:ext cx="4800600" cy="3200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96" name="Text Box 5"/>
          <p:cNvSpPr/>
          <p:nvPr/>
        </p:nvSpPr>
        <p:spPr>
          <a:xfrm>
            <a:off x="4114800" y="5486400"/>
            <a:ext cx="46483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0e5b"/>
                </a:solidFill>
                <a:latin typeface="Times New Roman"/>
              </a:rPr>
              <a:t>President Obama holds a full cabinet meet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PresSealFlag"/>
          <p:cNvPicPr/>
          <p:nvPr/>
        </p:nvPicPr>
        <p:blipFill>
          <a:blip r:embed="rId1"/>
          <a:stretch/>
        </p:blipFill>
        <p:spPr>
          <a:xfrm>
            <a:off x="1600200" y="2279520"/>
            <a:ext cx="6324480" cy="4294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1981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60ee"/>
                </a:solidFill>
                <a:latin typeface="Capitals"/>
              </a:rPr>
              <a:t>Presidential Appointments: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ffcc66"/>
                </a:solidFill>
                <a:latin typeface="Baskerville Semibold"/>
              </a:rPr>
              <a:t>The Confirmation Process</a:t>
            </a:r>
            <a:endParaRPr b="1" lang="en-US" sz="3600" spc="-1" strike="noStrike">
              <a:solidFill>
                <a:srgbClr val="4460ee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33"/>
                </a:solidFill>
                <a:latin typeface="Arial Bold"/>
              </a:rPr>
              <a:t>Step 1: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The President                     Appoints a Nomine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28" descr="Official_portrait_of_Barack_Obama"/>
          <p:cNvPicPr/>
          <p:nvPr/>
        </p:nvPicPr>
        <p:blipFill>
          <a:blip r:embed="rId1"/>
          <a:stretch/>
        </p:blipFill>
        <p:spPr>
          <a:xfrm>
            <a:off x="3505320" y="2590920"/>
            <a:ext cx="2286000" cy="2251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grpSp>
        <p:nvGrpSpPr>
          <p:cNvPr id="301" name="Group 48"/>
          <p:cNvGrpSpPr/>
          <p:nvPr/>
        </p:nvGrpSpPr>
        <p:grpSpPr>
          <a:xfrm>
            <a:off x="6324480" y="4267080"/>
            <a:ext cx="2210040" cy="1600200"/>
            <a:chOff x="6324480" y="4267080"/>
            <a:chExt cx="2210040" cy="1600200"/>
          </a:xfrm>
        </p:grpSpPr>
        <p:sp>
          <p:nvSpPr>
            <p:cNvPr id="302" name="Text Box 30"/>
            <p:cNvSpPr/>
            <p:nvPr/>
          </p:nvSpPr>
          <p:spPr>
            <a:xfrm>
              <a:off x="6324480" y="4267080"/>
              <a:ext cx="2210040" cy="1600200"/>
            </a:xfrm>
            <a:prstGeom prst="rect">
              <a:avLst/>
            </a:prstGeom>
            <a:solidFill>
              <a:srgbClr val="5b87f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askerville Semibold"/>
                </a:rPr>
                <a:t>Interest Grou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askerville Semibold"/>
                </a:rPr>
                <a:t>Influen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3" name="Picture 31" descr=""/>
            <p:cNvPicPr/>
            <p:nvPr/>
          </p:nvPicPr>
          <p:blipFill>
            <a:blip r:embed="rId2"/>
            <a:stretch/>
          </p:blipFill>
          <p:spPr>
            <a:xfrm>
              <a:off x="6934320" y="4876920"/>
              <a:ext cx="952560" cy="99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4" name="Group 47"/>
          <p:cNvGrpSpPr/>
          <p:nvPr/>
        </p:nvGrpSpPr>
        <p:grpSpPr>
          <a:xfrm>
            <a:off x="380880" y="4267080"/>
            <a:ext cx="2286000" cy="1600200"/>
            <a:chOff x="380880" y="4267080"/>
            <a:chExt cx="2286000" cy="1600200"/>
          </a:xfrm>
        </p:grpSpPr>
        <p:sp>
          <p:nvSpPr>
            <p:cNvPr id="305" name="Text Box 22"/>
            <p:cNvSpPr/>
            <p:nvPr/>
          </p:nvSpPr>
          <p:spPr>
            <a:xfrm>
              <a:off x="380880" y="4267080"/>
              <a:ext cx="2286000" cy="1600200"/>
            </a:xfrm>
            <a:prstGeom prst="rect">
              <a:avLst/>
            </a:prstGeom>
            <a:solidFill>
              <a:srgbClr val="5b87f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askerville Semibold"/>
                </a:rPr>
                <a:t>FBI Investig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6" name="Picture 33" descr="600px-US-FBI-Seal_svg"/>
            <p:cNvPicPr/>
            <p:nvPr/>
          </p:nvPicPr>
          <p:blipFill>
            <a:blip r:embed="rId3"/>
            <a:stretch/>
          </p:blipFill>
          <p:spPr>
            <a:xfrm>
              <a:off x="990720" y="464832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40"/>
          <p:cNvGrpSpPr/>
          <p:nvPr/>
        </p:nvGrpSpPr>
        <p:grpSpPr>
          <a:xfrm>
            <a:off x="304920" y="1981080"/>
            <a:ext cx="2743200" cy="1371600"/>
            <a:chOff x="304920" y="1981080"/>
            <a:chExt cx="2743200" cy="1371600"/>
          </a:xfrm>
        </p:grpSpPr>
        <p:sp>
          <p:nvSpPr>
            <p:cNvPr id="308" name="Text Box 17"/>
            <p:cNvSpPr/>
            <p:nvPr/>
          </p:nvSpPr>
          <p:spPr>
            <a:xfrm>
              <a:off x="304920" y="1981080"/>
              <a:ext cx="2743200" cy="1371600"/>
            </a:xfrm>
            <a:prstGeom prst="rect">
              <a:avLst/>
            </a:prstGeom>
            <a:solidFill>
              <a:srgbClr val="5b87f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askerville Semibold"/>
                </a:rPr>
                <a:t>White House Review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9" name="Picture 35" descr=""/>
            <p:cNvPicPr/>
            <p:nvPr/>
          </p:nvPicPr>
          <p:blipFill>
            <a:blip r:embed="rId4"/>
            <a:stretch/>
          </p:blipFill>
          <p:spPr>
            <a:xfrm>
              <a:off x="914400" y="2361960"/>
              <a:ext cx="1523880" cy="81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Text Box 37"/>
          <p:cNvSpPr/>
          <p:nvPr/>
        </p:nvSpPr>
        <p:spPr>
          <a:xfrm>
            <a:off x="228600" y="33526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he White House staff vets potential cabinet nomine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019920" y="34290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ominees fill out financial disclosure 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41"/>
          <p:cNvSpPr/>
          <p:nvPr/>
        </p:nvSpPr>
        <p:spPr>
          <a:xfrm>
            <a:off x="228600" y="5867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BI runs background checks on nomine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43"/>
          <p:cNvSpPr/>
          <p:nvPr/>
        </p:nvSpPr>
        <p:spPr>
          <a:xfrm>
            <a:off x="6172200" y="5867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terest groups weigh in on cabinet nomine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44"/>
          <p:cNvSpPr/>
          <p:nvPr/>
        </p:nvSpPr>
        <p:spPr>
          <a:xfrm>
            <a:off x="3429000" y="4952880"/>
            <a:ext cx="2438280" cy="64260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he President chooses a nomin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45"/>
          <p:cNvGrpSpPr/>
          <p:nvPr/>
        </p:nvGrpSpPr>
        <p:grpSpPr>
          <a:xfrm>
            <a:off x="6324480" y="1981080"/>
            <a:ext cx="2209680" cy="1447560"/>
            <a:chOff x="6324480" y="1981080"/>
            <a:chExt cx="2209680" cy="1447560"/>
          </a:xfrm>
        </p:grpSpPr>
        <p:sp>
          <p:nvSpPr>
            <p:cNvPr id="316" name="Text Box 20"/>
            <p:cNvSpPr/>
            <p:nvPr/>
          </p:nvSpPr>
          <p:spPr>
            <a:xfrm>
              <a:off x="6324480" y="1981080"/>
              <a:ext cx="2209680" cy="1447560"/>
            </a:xfrm>
            <a:prstGeom prst="rect">
              <a:avLst/>
            </a:prstGeom>
            <a:solidFill>
              <a:srgbClr val="5b87f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askerville Semibold"/>
                </a:rPr>
                <a:t>Financial Disclosure Form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7" name="Picture 25" descr=""/>
            <p:cNvPicPr/>
            <p:nvPr/>
          </p:nvPicPr>
          <p:blipFill>
            <a:blip r:embed="rId5"/>
            <a:stretch/>
          </p:blipFill>
          <p:spPr>
            <a:xfrm>
              <a:off x="6933960" y="251424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33"/>
                </a:solidFill>
                <a:latin typeface="Arial Bold"/>
              </a:rPr>
              <a:t>Step 2: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Senate             Confirmation Hear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6705720" y="2743200"/>
            <a:ext cx="2057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 Bold"/>
              </a:rPr>
              <a:t>Defense Secretary nominee Robert Gates testifies before the Senate Armed Services Committe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7" descr="gates-topper"/>
          <p:cNvPicPr/>
          <p:nvPr/>
        </p:nvPicPr>
        <p:blipFill>
          <a:blip r:embed="rId1"/>
          <a:stretch/>
        </p:blipFill>
        <p:spPr>
          <a:xfrm>
            <a:off x="2209680" y="1828800"/>
            <a:ext cx="4419720" cy="282564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4800240"/>
            <a:ext cx="8686800" cy="1676520"/>
          </a:xfrm>
          <a:prstGeom prst="rect">
            <a:avLst/>
          </a:prstGeom>
          <a:solidFill>
            <a:srgbClr val="5b87f2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ffff3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</a:rPr>
              <a:t>Senate Committee members grill nominees on subjects ranging from policy to personal background to tax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ffff3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</a:rPr>
              <a:t>The Senate standing committee votes up or down on a nominee and passes recommendation on to the full Sen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33"/>
                </a:solidFill>
                <a:latin typeface="Arial Bold"/>
              </a:rPr>
              <a:t>Step 2: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Senate             Confirmation Hear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3" descr="Hillary+Clinton+Testifies+Senate+Confirmation+Wi4t-G4CYH1l"/>
          <p:cNvPicPr/>
          <p:nvPr/>
        </p:nvPicPr>
        <p:blipFill>
          <a:blip r:embed="rId1"/>
          <a:stretch/>
        </p:blipFill>
        <p:spPr>
          <a:xfrm>
            <a:off x="4478400" y="2895480"/>
            <a:ext cx="4208400" cy="319248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3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Confirmation hearings may go smoothly, and nominees sail through committee as Secretary of State Hila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Clinton d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3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However, so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nominees may run 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into problems,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some must ev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withdraw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 Bold"/>
              </a:rPr>
              <a:t> the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3352680" y="6095880"/>
            <a:ext cx="556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 Bold"/>
              </a:rPr>
              <a:t>Secretary of State Hilary Clinton testifies before the       Senate Foreign Relations during her confirmation hea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33"/>
                </a:solidFill>
                <a:latin typeface="Arial Bold"/>
              </a:rPr>
              <a:t>Step 2: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Senate             Confirmation Hear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3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</a:rPr>
              <a:t>Treasury Secretary nominee Tim Geithner encountered problems in his reporting of taxes to the IRS, but was later confi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3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</a:rPr>
              <a:t>Tom Daschle, Obama’s pick for Health and Human Services, was forced to withdraw his nomination after he reportedly failed to report $140,000 in federal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380880" y="6032520"/>
            <a:ext cx="3581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 Bold"/>
              </a:rPr>
              <a:t>Treasury Secretary nominee Tim Geithner testifies before the         Senate Finance Committe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7" descr="geithner2_0121_E_20090121113817"/>
          <p:cNvPicPr/>
          <p:nvPr/>
        </p:nvPicPr>
        <p:blipFill>
          <a:blip r:embed="rId1"/>
          <a:stretch/>
        </p:blipFill>
        <p:spPr>
          <a:xfrm>
            <a:off x="685800" y="3733920"/>
            <a:ext cx="3276720" cy="218124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pic>
        <p:nvPicPr>
          <p:cNvPr id="330" name="Picture 9" descr="PH2009020301723"/>
          <p:cNvPicPr/>
          <p:nvPr/>
        </p:nvPicPr>
        <p:blipFill>
          <a:blip r:embed="rId2"/>
          <a:stretch/>
        </p:blipFill>
        <p:spPr>
          <a:xfrm>
            <a:off x="5181480" y="3733920"/>
            <a:ext cx="3200400" cy="222732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  <p:sp>
        <p:nvSpPr>
          <p:cNvPr id="331" name="Text Box 10"/>
          <p:cNvSpPr/>
          <p:nvPr/>
        </p:nvSpPr>
        <p:spPr>
          <a:xfrm>
            <a:off x="4952880" y="6032520"/>
            <a:ext cx="373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 Bold"/>
              </a:rPr>
              <a:t>Tom Daschle’s press conference announcing his withdrawal from  cabinet considera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33"/>
                </a:solidFill>
                <a:latin typeface="Arial Bold"/>
              </a:rPr>
              <a:t>Step 3: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Full Senate Vo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914400" y="563868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 Bold"/>
              </a:rPr>
              <a:t>If the cabinet nominee passes out of committee, a vote is taken by the full sen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8" descr="senate_in_session"/>
          <p:cNvPicPr/>
          <p:nvPr/>
        </p:nvPicPr>
        <p:blipFill>
          <a:blip r:embed="rId1"/>
          <a:stretch/>
        </p:blipFill>
        <p:spPr>
          <a:xfrm>
            <a:off x="1905120" y="1828800"/>
            <a:ext cx="5715000" cy="380988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33"/>
                </a:solidFill>
                <a:latin typeface="Arial Bold"/>
              </a:rPr>
              <a:t>Step 4:</a:t>
            </a:r>
            <a:r>
              <a:rPr b="1" lang="en-US" sz="3600" spc="-1" strike="noStrike">
                <a:solidFill>
                  <a:srgbClr val="ffffff"/>
                </a:solidFill>
                <a:latin typeface="Arial Bold"/>
              </a:rPr>
              <a:t>  Once Confirmed, the Cabinet Nominee is Sworn 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38080" y="57150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 Bold"/>
              </a:rPr>
              <a:t>Colin Powell takes the oath of office in 2001 to become Secretary of State under President George W. Bu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9" descr="ap_powell_081104_ssh"/>
          <p:cNvPicPr/>
          <p:nvPr/>
        </p:nvPicPr>
        <p:blipFill>
          <a:blip r:embed="rId1"/>
          <a:stretch/>
        </p:blipFill>
        <p:spPr>
          <a:xfrm>
            <a:off x="2057400" y="1828800"/>
            <a:ext cx="4761000" cy="368460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60ee"/>
                </a:solidFill>
                <a:latin typeface="Capitals"/>
              </a:rPr>
              <a:t>Factors That Influence Presidential Appointments</a:t>
            </a:r>
            <a:endParaRPr b="1" lang="en-US" sz="36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5715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>
              <a:spcBef>
                <a:spcPts val="799"/>
              </a:spcBef>
              <a:buClr>
                <a:srgbClr val="ffbf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y affil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-518040">
              <a:spcBef>
                <a:spcPts val="799"/>
              </a:spcBef>
              <a:buClr>
                <a:srgbClr val="ffbf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tical ide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-518040">
              <a:spcBef>
                <a:spcPts val="799"/>
              </a:spcBef>
              <a:buClr>
                <a:srgbClr val="ffbf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esident’s policy ag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-518040">
              <a:spcBef>
                <a:spcPts val="799"/>
              </a:spcBef>
              <a:buClr>
                <a:srgbClr val="ffbf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ground of the nominee:  expertise, professional experience, education, fam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-518040">
              <a:spcBef>
                <a:spcPts val="799"/>
              </a:spcBef>
              <a:buClr>
                <a:srgbClr val="ffbf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tical favors - rewarding personal or political frie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Picture 4" descr="400px-George_W_Bush_and_Condoleezza_Rice_2008"/>
          <p:cNvPicPr/>
          <p:nvPr/>
        </p:nvPicPr>
        <p:blipFill>
          <a:blip r:embed="rId1"/>
          <a:stretch/>
        </p:blipFill>
        <p:spPr>
          <a:xfrm>
            <a:off x="6045120" y="1600200"/>
            <a:ext cx="2793960" cy="4191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41" name="Text Box 5"/>
          <p:cNvSpPr/>
          <p:nvPr/>
        </p:nvSpPr>
        <p:spPr>
          <a:xfrm>
            <a:off x="6019920" y="5791320"/>
            <a:ext cx="2819160" cy="7333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a0e5b"/>
                </a:solidFill>
                <a:latin typeface="Times New Roman"/>
              </a:rPr>
              <a:t>President Bush chose Condeleezza Rice as Secretary of State in his second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60ee"/>
                </a:solidFill>
                <a:latin typeface="Capitals"/>
              </a:rPr>
              <a:t>Factors That Influence Presidential Appointments </a:t>
            </a:r>
            <a:r>
              <a:rPr b="1" lang="en-US" sz="2400" spc="-1" strike="noStrike">
                <a:solidFill>
                  <a:srgbClr val="4460ee"/>
                </a:solidFill>
                <a:latin typeface="Capitals"/>
              </a:rPr>
              <a:t>(cont.)</a:t>
            </a:r>
            <a:endParaRPr b="1" lang="en-US" sz="24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6400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bf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fill campaig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bf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edback fro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t part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bf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est group in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bf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uring a “saf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minee” acceptabl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to the Sen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bf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s coverage of nomin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4" name="Picture 4" descr="PH2008121701700"/>
          <p:cNvPicPr/>
          <p:nvPr/>
        </p:nvPicPr>
        <p:blipFill>
          <a:blip r:embed="rId1"/>
          <a:stretch/>
        </p:blipFill>
        <p:spPr>
          <a:xfrm>
            <a:off x="4876920" y="2057400"/>
            <a:ext cx="4070160" cy="3030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45" name="Text Box 5"/>
          <p:cNvSpPr/>
          <p:nvPr/>
        </p:nvSpPr>
        <p:spPr>
          <a:xfrm>
            <a:off x="4876920" y="5105520"/>
            <a:ext cx="4038480" cy="5806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a0e5b"/>
                </a:solidFill>
                <a:latin typeface="Times New Roman"/>
              </a:rPr>
              <a:t>Obama announces Colorado governor Ken Salazar as Secretary of the Interi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pperplate Gothic Bold"/>
              </a:rPr>
              <a:t>The Constituti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pperplate Gothic Bold"/>
              </a:rPr>
              <a:t>an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pperplate Gothic Bold"/>
              </a:rPr>
              <a:t>Presidential Appoint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4191120" y="259092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pperplate Gothic Bold"/>
              </a:rPr>
              <a:t>Article II:  The Executiv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pperplate Gothic Bold"/>
              </a:rPr>
              <a:t>and appointment power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pperplate Gothic Bold"/>
              </a:rPr>
              <a:t>of the Presi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143000" y="4495680"/>
            <a:ext cx="7086600" cy="1556280"/>
          </a:xfrm>
          <a:prstGeom prst="rect">
            <a:avLst/>
          </a:prstGeom>
          <a:solidFill>
            <a:srgbClr val="6633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Lucida Calligraphy"/>
                <a:ea typeface="Osaka"/>
              </a:rPr>
              <a:t>The executive Power shall be vested in a President of the United States of Americ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2895480" cy="196200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pperplate Gothic Bold"/>
              </a:rPr>
              <a:t>Article II:  The Executiv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pperplate Gothic Bold"/>
              </a:rPr>
              <a:t>and appointment power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pperplate Gothic Bold"/>
              </a:rPr>
              <a:t>of the Presi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80880" y="4419720"/>
            <a:ext cx="8458200" cy="1629000"/>
          </a:xfrm>
          <a:prstGeom prst="rect">
            <a:avLst/>
          </a:prstGeom>
          <a:solidFill>
            <a:srgbClr val="6633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Lucida Calligraphy"/>
                <a:ea typeface="Osaka"/>
              </a:rPr>
              <a:t>...he may require the Opinion, in writing, of the principal Officer in each of the executive Departments, upon any subject relating to the Duties of their respective Off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2895480" cy="196200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pperplate Gothic Bold"/>
              </a:rPr>
              <a:t>Article II:  The Executiv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pperplate Gothic Bold"/>
              </a:rPr>
              <a:t>and appointment power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pperplate Gothic Bold"/>
              </a:rPr>
              <a:t>of the Presi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609480" y="4495680"/>
            <a:ext cx="8153640" cy="2012760"/>
          </a:xfrm>
          <a:prstGeom prst="rect">
            <a:avLst/>
          </a:prstGeom>
          <a:solidFill>
            <a:srgbClr val="6633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Lucida Calligraphy"/>
                <a:ea typeface="Osaka"/>
              </a:rPr>
              <a:t>...he shall nominate, and by and with the Advice and Consent of the Senate, shall appoint Ambassadors, other public Ministers and Consuls... and all other Officers of the United States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2895480" cy="196200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pperplate Gothic Bold"/>
              </a:rPr>
              <a:t>The Constitution and 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Copperplate Gothic Bold"/>
              </a:rPr>
              <a:t>Presidential Appoint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4191120" y="259092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2727360" y="2257560"/>
            <a:ext cx="542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askerville Semi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askerville Semibold"/>
              </a:rPr>
              <a:t>Identify the Constitutional requirements for appointing federal government officia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askerville Semibold"/>
              </a:rPr>
              <a:t>2)  How do these requirements promote checks and balances between the three branches of the federal governm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661240" cy="9144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0ee"/>
                </a:solidFill>
                <a:latin typeface="Capitals"/>
              </a:rPr>
              <a:t>The President’s Cabinet:  Important Facts</a:t>
            </a:r>
            <a:endParaRPr b="1" lang="en-US" sz="2800" spc="-1" strike="noStrike">
              <a:solidFill>
                <a:srgbClr val="4460ee"/>
              </a:solidFill>
              <a:latin typeface="Arial"/>
            </a:endParaRPr>
          </a:p>
        </p:txBody>
      </p:sp>
      <p:grpSp>
        <p:nvGrpSpPr>
          <p:cNvPr id="258" name="Group 22"/>
          <p:cNvGrpSpPr/>
          <p:nvPr/>
        </p:nvGrpSpPr>
        <p:grpSpPr>
          <a:xfrm>
            <a:off x="390600" y="1357200"/>
            <a:ext cx="3495600" cy="2332080"/>
            <a:chOff x="390600" y="1357200"/>
            <a:chExt cx="3495600" cy="2332080"/>
          </a:xfrm>
        </p:grpSpPr>
        <p:sp>
          <p:nvSpPr>
            <p:cNvPr id="259" name="Oval 6"/>
            <p:cNvSpPr/>
            <p:nvPr/>
          </p:nvSpPr>
          <p:spPr>
            <a:xfrm>
              <a:off x="390600" y="1357200"/>
              <a:ext cx="2301840" cy="1709640"/>
            </a:xfrm>
            <a:prstGeom prst="ellipse">
              <a:avLst/>
            </a:prstGeom>
            <a:solidFill>
              <a:srgbClr val="ffff3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a0e5b"/>
                  </a:solidFill>
                  <a:latin typeface="Times New Roman"/>
                </a:rPr>
                <a:t>There are   15 cabine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a0e5b"/>
                  </a:solidFill>
                  <a:latin typeface="Times New Roman"/>
                </a:rPr>
                <a:t>department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a0e5b"/>
                  </a:solidFill>
                  <a:latin typeface="Times New Roman"/>
                </a:rPr>
                <a:t>toda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3"/>
            <p:cNvSpPr/>
            <p:nvPr/>
          </p:nvSpPr>
          <p:spPr>
            <a:xfrm>
              <a:off x="2438280" y="2774880"/>
              <a:ext cx="1447920" cy="91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Group 31"/>
          <p:cNvGrpSpPr/>
          <p:nvPr/>
        </p:nvGrpSpPr>
        <p:grpSpPr>
          <a:xfrm>
            <a:off x="5572440" y="3962520"/>
            <a:ext cx="3266640" cy="2057400"/>
            <a:chOff x="5572440" y="3962520"/>
            <a:chExt cx="3266640" cy="2057400"/>
          </a:xfrm>
        </p:grpSpPr>
        <p:sp>
          <p:nvSpPr>
            <p:cNvPr id="262" name="Oval 10"/>
            <p:cNvSpPr/>
            <p:nvPr/>
          </p:nvSpPr>
          <p:spPr>
            <a:xfrm>
              <a:off x="6340320" y="3962520"/>
              <a:ext cx="2498760" cy="2057400"/>
            </a:xfrm>
            <a:prstGeom prst="ellipse">
              <a:avLst/>
            </a:prstGeom>
            <a:solidFill>
              <a:srgbClr val="ffff3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a0e5b"/>
                  </a:solidFill>
                  <a:latin typeface="Times New Roman"/>
                </a:rPr>
                <a:t>Only Congres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a0e5b"/>
                  </a:solidFill>
                  <a:latin typeface="Times New Roman"/>
                </a:rPr>
                <a:t>can create executive department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4"/>
            <p:cNvSpPr/>
            <p:nvPr/>
          </p:nvSpPr>
          <p:spPr>
            <a:xfrm>
              <a:off x="5572440" y="4163400"/>
              <a:ext cx="892800" cy="480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Group 24"/>
          <p:cNvGrpSpPr/>
          <p:nvPr/>
        </p:nvGrpSpPr>
        <p:grpSpPr>
          <a:xfrm>
            <a:off x="5577120" y="1657440"/>
            <a:ext cx="3219120" cy="1952640"/>
            <a:chOff x="5577120" y="1657440"/>
            <a:chExt cx="3219120" cy="1952640"/>
          </a:xfrm>
        </p:grpSpPr>
        <p:sp>
          <p:nvSpPr>
            <p:cNvPr id="265" name="Oval 9"/>
            <p:cNvSpPr/>
            <p:nvPr/>
          </p:nvSpPr>
          <p:spPr>
            <a:xfrm>
              <a:off x="6273720" y="1657440"/>
              <a:ext cx="2522520" cy="1862280"/>
            </a:xfrm>
            <a:prstGeom prst="ellipse">
              <a:avLst/>
            </a:prstGeom>
            <a:solidFill>
              <a:srgbClr val="ffff3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a0e5b"/>
                  </a:solidFill>
                  <a:latin typeface="Times New Roman"/>
                </a:rPr>
                <a:t>Cabinet not specifically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a0e5b"/>
                  </a:solidFill>
                  <a:latin typeface="Times New Roman"/>
                </a:rPr>
                <a:t>included in constitu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5"/>
            <p:cNvSpPr/>
            <p:nvPr/>
          </p:nvSpPr>
          <p:spPr>
            <a:xfrm flipV="1">
              <a:off x="5577120" y="3116160"/>
              <a:ext cx="929520" cy="493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Group 33"/>
          <p:cNvGrpSpPr/>
          <p:nvPr/>
        </p:nvGrpSpPr>
        <p:grpSpPr>
          <a:xfrm>
            <a:off x="380880" y="3352680"/>
            <a:ext cx="3513240" cy="2438640"/>
            <a:chOff x="380880" y="3352680"/>
            <a:chExt cx="3513240" cy="2438640"/>
          </a:xfrm>
        </p:grpSpPr>
        <p:sp>
          <p:nvSpPr>
            <p:cNvPr id="268" name="Oval 12"/>
            <p:cNvSpPr/>
            <p:nvPr/>
          </p:nvSpPr>
          <p:spPr>
            <a:xfrm>
              <a:off x="380880" y="3352680"/>
              <a:ext cx="3038760" cy="2438640"/>
            </a:xfrm>
            <a:prstGeom prst="ellipse">
              <a:avLst/>
            </a:prstGeom>
            <a:solidFill>
              <a:srgbClr val="ffff3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a0e5b"/>
                  </a:solidFill>
                  <a:latin typeface="Times New Roman"/>
                </a:rPr>
                <a:t>Cabinet based upon tradition and secretaries serve at the pleasure of the Presid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6"/>
            <p:cNvSpPr/>
            <p:nvPr/>
          </p:nvSpPr>
          <p:spPr>
            <a:xfrm flipV="1">
              <a:off x="3380400" y="4151160"/>
              <a:ext cx="513720" cy="194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Group 30"/>
          <p:cNvGrpSpPr/>
          <p:nvPr/>
        </p:nvGrpSpPr>
        <p:grpSpPr>
          <a:xfrm>
            <a:off x="3733920" y="838080"/>
            <a:ext cx="1981080" cy="2210040"/>
            <a:chOff x="3733920" y="838080"/>
            <a:chExt cx="1981080" cy="2210040"/>
          </a:xfrm>
        </p:grpSpPr>
        <p:sp>
          <p:nvSpPr>
            <p:cNvPr id="271" name="Oval 8"/>
            <p:cNvSpPr/>
            <p:nvPr/>
          </p:nvSpPr>
          <p:spPr>
            <a:xfrm>
              <a:off x="3733920" y="838080"/>
              <a:ext cx="1981080" cy="1752840"/>
            </a:xfrm>
            <a:prstGeom prst="ellipse">
              <a:avLst/>
            </a:prstGeom>
            <a:solidFill>
              <a:srgbClr val="ffff3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a0e5b"/>
                  </a:solidFill>
                  <a:latin typeface="Times New Roman"/>
                </a:rPr>
                <a:t>Cabinet secretaries advise the Presid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7"/>
            <p:cNvSpPr/>
            <p:nvPr/>
          </p:nvSpPr>
          <p:spPr>
            <a:xfrm>
              <a:off x="4724280" y="259092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Group 32"/>
          <p:cNvGrpSpPr/>
          <p:nvPr/>
        </p:nvGrpSpPr>
        <p:grpSpPr>
          <a:xfrm>
            <a:off x="3505320" y="4724280"/>
            <a:ext cx="2590560" cy="2133720"/>
            <a:chOff x="3505320" y="4724280"/>
            <a:chExt cx="2590560" cy="2133720"/>
          </a:xfrm>
        </p:grpSpPr>
        <p:sp>
          <p:nvSpPr>
            <p:cNvPr id="274" name="Oval 11"/>
            <p:cNvSpPr/>
            <p:nvPr/>
          </p:nvSpPr>
          <p:spPr>
            <a:xfrm>
              <a:off x="3505320" y="4876920"/>
              <a:ext cx="2590560" cy="1981080"/>
            </a:xfrm>
            <a:prstGeom prst="ellipse">
              <a:avLst/>
            </a:prstGeom>
            <a:solidFill>
              <a:srgbClr val="ffff3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a0e5b"/>
                  </a:solidFill>
                  <a:latin typeface="Times New Roman"/>
                </a:rPr>
                <a:t>Secretaries appointed by President &amp; confirmed by the Sena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8"/>
            <p:cNvSpPr/>
            <p:nvPr/>
          </p:nvSpPr>
          <p:spPr>
            <a:xfrm flipH="1">
              <a:off x="4723920" y="4724280"/>
              <a:ext cx="11160" cy="179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Group 28"/>
          <p:cNvGrpSpPr/>
          <p:nvPr/>
        </p:nvGrpSpPr>
        <p:grpSpPr>
          <a:xfrm>
            <a:off x="3886200" y="2895480"/>
            <a:ext cx="1676520" cy="1828800"/>
            <a:chOff x="3886200" y="2895480"/>
            <a:chExt cx="1676520" cy="1828800"/>
          </a:xfrm>
        </p:grpSpPr>
        <p:sp>
          <p:nvSpPr>
            <p:cNvPr id="277" name="AutoShape 7"/>
            <p:cNvSpPr/>
            <p:nvPr/>
          </p:nvSpPr>
          <p:spPr>
            <a:xfrm>
              <a:off x="3886200" y="2895480"/>
              <a:ext cx="1676520" cy="1828800"/>
            </a:xfrm>
            <a:custGeom>
              <a:avLst/>
              <a:gdLst>
                <a:gd name="textAreaLeft" fmla="*/ 81720 w 1676520"/>
                <a:gd name="textAreaRight" fmla="*/ 1594800 w 1676520"/>
                <a:gd name="textAreaTop" fmla="*/ 81720 h 1828800"/>
                <a:gd name="textAreaBottom" fmla="*/ 1747080 h 1828800"/>
              </a:gdLst>
              <a:ahLst/>
              <a:rect l="textAreaLeft" t="textAreaTop" r="textAreaRight" b="textAreaBottom"/>
              <a:pathLst>
                <a:path w="21600" h="23562">
                  <a:moveTo>
                    <a:pt x="3600" y="0"/>
                  </a:moveTo>
                  <a:arcTo wR="3600" hR="3600" stAng="16200000" swAng="-5400000"/>
                  <a:lnTo>
                    <a:pt x="0" y="19962"/>
                  </a:lnTo>
                  <a:arcTo wR="3600" hR="3600" stAng="10800000" swAng="-5400000"/>
                  <a:lnTo>
                    <a:pt x="18000" y="235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8" name="Group 19"/>
            <p:cNvGrpSpPr/>
            <p:nvPr/>
          </p:nvGrpSpPr>
          <p:grpSpPr>
            <a:xfrm>
              <a:off x="4122720" y="2982600"/>
              <a:ext cx="1219320" cy="1638000"/>
              <a:chOff x="4122720" y="2982600"/>
              <a:chExt cx="1219320" cy="1638000"/>
            </a:xfrm>
          </p:grpSpPr>
          <p:pic>
            <p:nvPicPr>
              <p:cNvPr id="279" name="Picture 20" descr="scrap-dr"/>
              <p:cNvPicPr/>
              <p:nvPr/>
            </p:nvPicPr>
            <p:blipFill>
              <a:blip r:embed="rId1"/>
              <a:stretch/>
            </p:blipFill>
            <p:spPr>
              <a:xfrm>
                <a:off x="4122720" y="2982600"/>
                <a:ext cx="1219320" cy="12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WordArt 21"/>
              <p:cNvSpPr txBox="1"/>
              <p:nvPr/>
            </p:nvSpPr>
            <p:spPr>
              <a:xfrm>
                <a:off x="4122720" y="4125600"/>
                <a:ext cx="1219320" cy="495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Deflate">
                  <a:avLst>
                    <a:gd name="adj" fmla="val 2622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80"/>
                      </a:solidFill>
                      <a:miter/>
                    </a:ln>
                    <a:solidFill>
                      <a:srgbClr val="333399"/>
                    </a:solidFill>
                    <a:latin typeface="Impact"/>
                  </a:rPr>
                  <a:t>Cabinet</a:t>
                </a:r>
                <a:endParaRPr b="0" lang="en-US" sz="2400" spc="1" strike="noStrike">
                  <a:ln w="9360">
                    <a:solidFill>
                      <a:srgbClr val="000080"/>
                    </a:solidFill>
                    <a:miter/>
                  </a:ln>
                  <a:solidFill>
                    <a:srgbClr val="333399"/>
                  </a:solidFill>
                  <a:latin typeface="Impact"/>
                  <a:ea typeface="Impact"/>
                </a:endParaRPr>
              </a:p>
            </p:txBody>
          </p:sp>
        </p:grpSp>
      </p:grp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876560" y="129528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dfc08d"/>
                </a:solidFill>
                <a:latin typeface="Baskerville Semibold"/>
              </a:rPr>
              <a:t>Washington established a precedent by forming the first cabine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" descr="george-washington-pi"/>
          <p:cNvPicPr/>
          <p:nvPr/>
        </p:nvPicPr>
        <p:blipFill>
          <a:blip r:embed="rId1"/>
          <a:stretch/>
        </p:blipFill>
        <p:spPr>
          <a:xfrm>
            <a:off x="609480" y="685800"/>
            <a:ext cx="4119840" cy="3368520"/>
          </a:xfrm>
          <a:prstGeom prst="rect">
            <a:avLst/>
          </a:prstGeom>
          <a:ln w="9360">
            <a:solidFill>
              <a:srgbClr val="dfc08d"/>
            </a:solidFill>
            <a:miter/>
          </a:ln>
        </p:spPr>
      </p:pic>
      <p:sp>
        <p:nvSpPr>
          <p:cNvPr id="283" name="WordArt 4"/>
          <p:cNvSpPr txBox="1"/>
          <p:nvPr/>
        </p:nvSpPr>
        <p:spPr>
          <a:xfrm>
            <a:off x="380880" y="5257800"/>
            <a:ext cx="8534520" cy="10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 Bold"/>
              </a:rPr>
              <a:t>Why do you think Washington decided 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 Bold"/>
              <a:ea typeface="Arial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 Bold"/>
              </a:rPr>
              <a:t>to form a cabinet?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 Bold"/>
              <a:ea typeface="Arial Bold"/>
            </a:endParaRPr>
          </a:p>
        </p:txBody>
      </p:sp>
      <p:sp>
        <p:nvSpPr>
          <p:cNvPr id="284" name="WordArt 5"/>
          <p:cNvSpPr txBox="1"/>
          <p:nvPr/>
        </p:nvSpPr>
        <p:spPr>
          <a:xfrm>
            <a:off x="1981080" y="4495680"/>
            <a:ext cx="488952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 Bold"/>
              </a:rPr>
              <a:t>What's a "precedent?"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 Bold"/>
              <a:ea typeface="Arial Bold"/>
            </a:endParaRPr>
          </a:p>
        </p:txBody>
      </p:sp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T029003A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3"/>
          <p:cNvSpPr/>
          <p:nvPr/>
        </p:nvSpPr>
        <p:spPr>
          <a:xfrm>
            <a:off x="1828800" y="61722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1143000" y="4572000"/>
            <a:ext cx="2133720" cy="733320"/>
          </a:xfrm>
          <a:prstGeom prst="rect">
            <a:avLst/>
          </a:prstGeom>
          <a:solidFill>
            <a:srgbClr val="0a0e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askerville Semibold"/>
              </a:rPr>
              <a:t>President            George Washingt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600200" y="6019560"/>
            <a:ext cx="6400800" cy="533160"/>
          </a:xfrm>
          <a:prstGeom prst="rect">
            <a:avLst/>
          </a:prstGeom>
          <a:solidFill>
            <a:srgbClr val="990000"/>
          </a:solidFill>
          <a:ln w="57240">
            <a:solidFill>
              <a:srgbClr val="0a0e5b"/>
            </a:solidFill>
            <a:miter/>
          </a:ln>
          <a:effectLst>
            <a:outerShdw dist="12600" dir="162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33"/>
                </a:solidFill>
                <a:latin typeface="Copperplate Gothic Bold"/>
              </a:rPr>
              <a:t>Washington’s First Cabinet</a:t>
            </a:r>
            <a:endParaRPr b="1" lang="en-US" sz="2800" spc="-1" strike="noStrike">
              <a:solidFill>
                <a:srgbClr val="4460ee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2590920" y="3505320"/>
            <a:ext cx="1676160" cy="716400"/>
          </a:xfrm>
          <a:prstGeom prst="rect">
            <a:avLst/>
          </a:prstGeom>
          <a:solidFill>
            <a:srgbClr val="0a0e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askerville Semibold"/>
              </a:rPr>
              <a:t>Secretary of W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askerville Semibold"/>
              </a:rPr>
              <a:t>Henry Kn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3886200" y="2209680"/>
            <a:ext cx="1981080" cy="801360"/>
          </a:xfrm>
          <a:prstGeom prst="rect">
            <a:avLst/>
          </a:prstGeom>
          <a:solidFill>
            <a:srgbClr val="0a0e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askerville Semibold"/>
              </a:rPr>
              <a:t>Secretary of Treasu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askerville Semibold"/>
              </a:rPr>
              <a:t>Alexander Hamilt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5181480" y="3505320"/>
            <a:ext cx="1752840" cy="844560"/>
          </a:xfrm>
          <a:prstGeom prst="rect">
            <a:avLst/>
          </a:prstGeom>
          <a:solidFill>
            <a:srgbClr val="0a0e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askerville Semibold"/>
              </a:rPr>
              <a:t>Secretary of St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askerville Semibold"/>
              </a:rPr>
              <a:t>Thomas Jeffers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6705720" y="4495680"/>
            <a:ext cx="1828800" cy="733320"/>
          </a:xfrm>
          <a:prstGeom prst="rect">
            <a:avLst/>
          </a:prstGeom>
          <a:solidFill>
            <a:srgbClr val="0a0e5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askerville Semibold"/>
              </a:rPr>
              <a:t>Attorney General Edmund Randolp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02:34:47Z</dcterms:created>
  <dc:creator>Julie Strong</dc:creator>
  <dc:description/>
  <dc:language>en-US</dc:language>
  <cp:lastModifiedBy>hberndt</cp:lastModifiedBy>
  <dcterms:modified xsi:type="dcterms:W3CDTF">2010-05-04T13:31:57Z</dcterms:modified>
  <cp:revision>29</cp:revision>
  <dc:subject/>
  <dc:title>Presidential Appointments: </dc:title>
</cp:coreProperties>
</file>